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BE65-A0F7-4C44-800B-F0563D1E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AD1-7F7A-4312-A472-48AC7D776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7768-B681-4BDC-A7BA-2C6BD8D0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4519-1DB1-42B0-BBC3-EAFDED98E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C3AB-AFAC-4B70-9647-4913FFDE8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737F-D313-4633-843B-1C507CC3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6D98-E63E-46AB-85EF-1317997E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FD27-461C-4794-975D-281F69CC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9E52-8EC2-42CD-A800-147B67ACB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9365-E6A7-476E-BDF0-7A1DE5A0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E74D-8F0C-4E37-B7F4-24658EB5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924B-5BE0-4151-A59C-CAB436F81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4E14-5272-401E-A83B-99CA096A7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FDA0-D22C-4C1B-B5F5-03E677A8E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9A19-ED5F-4657-A1CA-CCB364119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E307-D7B8-417C-A5EE-82B36E00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CD43-E100-49ED-BBE9-A0E09B54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4CD8-7828-457C-A98A-1F0FB26DE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03F-BBCC-49FC-B708-D315B446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CF97-A344-4ED0-8147-71BCDA7D6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497C-F6FF-41DE-922C-A1143791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E807-72DF-429E-8E5D-A17442AB6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064A-9F1F-470F-8482-0CDD471EC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84FC-B407-42F4-B61F-6F062E1C3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1D77-5B2D-43F1-A3A9-0285A08F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232-0CA3-4605-9FB1-EFC2621D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1E0-9837-42AF-8339-68733627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867-3482-4C5E-BDA9-988DFD0F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A25-2A68-431E-A9A2-E1F47B29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C37-5C18-4463-9E49-0A040AD5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CA0-7833-407F-A404-03971336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4BE-AED7-44E2-B71F-E68FC743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4F1-3463-4682-BF8D-4F37016B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3C8-D952-4155-AF1E-B4490CBF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85F-DB45-41F8-8201-54CA72D4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F75-470D-483F-A793-0C1B476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E03-915C-4CB0-B1A1-9632A02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AE19-E06B-4ED3-9E9C-F727505C4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F4E3-398D-4E77-A56B-B7152498C25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ЕМОСТАЗА У ОРАЛНОЈ ХИРУРГИЈИ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5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Нормална хемостаза, крварење, вештачка хемостаза, обољења с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хеморагијским синдро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D809-EEC4-429B-B345-FA4A3CB8E47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57200" y="1407960"/>
            <a:ext cx="8145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крварења могу да се поделе на опште и локал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ПШТИ УЗРОЦИ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последица обољења који се једним именом називају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хеморагијски 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ремећаји могу да се одразе на све три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о су оштећени зидови крвног суда  ( дијабетес, хеморагијска телеангиектазија ) продужена је прва васкуларна ф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омбоцитопенија, тромбоцитостенија и антиагрегациона терапијаимају последице на другу фазу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фицит или недостатак неког фактора коагулације ( хемофилија А) изазива поремећај коагулацијске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B27E-D12F-4A11-95A9-395864B5D62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93560" y="1986120"/>
            <a:ext cx="8145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ОКАЛНИ УЗРОК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арења је повреда крвних судова и кости богатој крвним суд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тога је атрауматски рад, по основним принципима хируршког рада, најбоља превенција интраоперативног и постоперативног крв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г за секундарно крварење може да буде фибринолиза формираног коагулума.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ипов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03D-C29F-4496-AAC7-652AC18BB1A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69800" y="1781280"/>
            <a:ext cx="8120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K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варења се деле према: узроку настанка, месту где се крв излива, крвним судовима из којих се излива, времену настанка, јачини, току и механизму наста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к – најчешће трауматски и патолошка крв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сто – спољашње крварење и унутрашња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е крв излива и локализује у поткожном и подслузокожном ткиву клинички се манифестује као: петехије,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химозе, вабицес или хема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ипов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B0FA-C100-4ABC-B895-0C920216A6D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57200" y="179244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носу на повређени крвни суд крварења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ртеријска, венска, капиларна и паренхимат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реме настанка – примарна крварења, секундарна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настанка – због промена на крвном суду (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rhex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дејства механичке силе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diares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због патолошких промена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diabros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патолошке пропустљивости неповређених крвних судова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diapedes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рварења у стома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0" y="6424560"/>
            <a:ext cx="4073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0687-1683-41A9-B966-86CB1FAE77C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" y="1503360"/>
            <a:ext cx="8229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 посебног интереса за стоматологију су крварења која се јављају у току вађења зуба и орално-хируршких интервенција, као и после њ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рада у устима, најчешће су изложене повредама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palatina major, a. alveolaris inferior et a. lingu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ма извору, постекстракциона крварења се деле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шт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одон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рварења у стома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0" y="6424560"/>
            <a:ext cx="3824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D180-C580-4ED9-935A-5940F985151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" y="197316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Гингивал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рварења се карактеришу слабим интезитетом, али могу да буду дуготрајна. Посебно су учестала и интезивна из инфламиране гинги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тог разлога се хируршке интервенције избегавају у фази акутног запаљења гинги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ошта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крварења настају отварањем нутритивних крвних судова у коштаним каналић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одонтал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рварења су интезивна и чешће се јављају из периодонцијума бочних, вишекорених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FD4D-7EF2-4A33-B8EA-B37CA222A58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80960" y="1852560"/>
            <a:ext cx="8169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куп мера и поступака које предузима лекар, односно хирург, у циљу заустављања крварења назива се вештачка или артефицијална хемост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тоди за дефинитивну хемостазу, у основи, деле се на механичке, хемијске, биолошке и физич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0" y="6424560"/>
            <a:ext cx="4073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D575-8A18-4B61-A294-87062F16C7D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04720" y="1841400"/>
            <a:ext cx="8085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МЕХАНИЧКИ МЕТОДИ ХЕМО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игитална компре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притисак прстима на крвни с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labialis inferior et superior, a. facialis. a. dorsalis nasi, a. supraorbitali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C:\Users\Zoran\Downloads\oralna hirurgija\slike\imagesmj.jpg"/>
          <p:cNvPicPr/>
          <p:nvPr/>
        </p:nvPicPr>
        <p:blipFill>
          <a:blip r:embed="rId1"/>
          <a:stretch/>
        </p:blipFill>
        <p:spPr>
          <a:xfrm>
            <a:off x="2662200" y="3949560"/>
            <a:ext cx="39657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5DCA-7861-4D43-BA7D-BE4CDA14A29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480960" y="1792440"/>
            <a:ext cx="810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вршна тамп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ј метод се рутински користи у свакодневној стоматолошкој пракси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C:\Users\Zoran\Downloads\oralna hirurgija\slike\download (15).jpg"/>
          <p:cNvPicPr/>
          <p:nvPr/>
        </p:nvPicPr>
        <p:blipFill>
          <a:blip r:embed="rId1"/>
          <a:stretch/>
        </p:blipFill>
        <p:spPr>
          <a:xfrm>
            <a:off x="2408400" y="3462480"/>
            <a:ext cx="41432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8842-3C11-410F-A3D3-E025E3FC270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93560" y="1697040"/>
            <a:ext cx="815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убока тамп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Users\Zoran\Downloads\oralna hirurgija\slike\imagesfgggfd.jpg"/>
          <p:cNvPicPr/>
          <p:nvPr/>
        </p:nvPicPr>
        <p:blipFill>
          <a:blip r:embed="rId1"/>
          <a:stretch/>
        </p:blipFill>
        <p:spPr>
          <a:xfrm>
            <a:off x="2446200" y="2590920"/>
            <a:ext cx="4130640" cy="32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24FA-0235-4E28-BEDB-A50058016AB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93560" y="1768320"/>
            <a:ext cx="809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куп процеса које регулишу непропустљивост и затварање повређеног крвног суда назива се хемост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здравом организму постоји равнотежа између два стално присутна  и активна антагонистичка механизма –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оагулације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инолизе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хемостазе подразумева очување свих елемената и фактора хемостазе у квантитативном и квалитативном смис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крвне судове, тромбоците и факторе коагулациј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ремећај било ког од наведених фактора доводи до продуженог крварења из крвних су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B393-3ED6-4264-8F5D-165E810D40D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469800" y="175752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игатура крвног 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C:\Users\Zoran\Downloads\oralna hirurgija\slike\imagesfrt.jpg"/>
          <p:cNvPicPr/>
          <p:nvPr/>
        </p:nvPicPr>
        <p:blipFill>
          <a:blip r:embed="rId1"/>
          <a:stretch/>
        </p:blipFill>
        <p:spPr>
          <a:xfrm>
            <a:off x="1982880" y="2543040"/>
            <a:ext cx="404964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A0BF-EEF1-4E19-B6A9-9ABFE72EDA2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69800" y="181620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A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рилатна и штенц-пло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C:\Users\Zoran\Downloads\oralna hirurgija\slike\images34.jpg"/>
          <p:cNvPicPr/>
          <p:nvPr/>
        </p:nvPicPr>
        <p:blipFill>
          <a:blip r:embed="rId1"/>
          <a:stretch/>
        </p:blipFill>
        <p:spPr>
          <a:xfrm>
            <a:off x="1663560" y="3164040"/>
            <a:ext cx="57214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798F-41B2-4E75-8488-F8620CB226F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80960" y="1647720"/>
            <a:ext cx="813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ХЕМИЈСКИ МЕТОДИ ХЕМО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е хемијска једињења која имају особине да позитивно утичу на процес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дејства може бити различит, односно могу деловати на било коју фазу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ма дејству и начину апликације хемијски хемостатици деле се на опште и локал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CB8-7BE3-459F-894D-1E9826D6C03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33440" y="1792440"/>
            <a:ext cx="8145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И ХЕМИЈСКИ ХЕМОСТ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аустичн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агулишу беланчевине када дођу у контакт са њ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лавном се користе за крварење са рањавих површина на слузокожи и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ове групе хемостатика најчешће се примењују 3% хидрог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2% калијум-перманганат и 30-50% фери-хло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426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E0D-273A-4625-AD65-30F3B73C980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82160"/>
            <a:ext cx="87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444600" y="1708200"/>
            <a:ext cx="809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азоконстри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тичу на прву фазу хемостазе, изазивајући грчење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Њихово дејство је пролазног карактера, па се могу сматрати средствима за привремену хемост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е се најчешће у току операције ради постизања боље преглед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EF04-EE4C-4EFF-AD3F-D77202B3D4E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525600" y="1812960"/>
            <a:ext cx="812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Цинк – окс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а благо каустичан и механички компресивни ефе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 цинк-оксид делује и благо анестетички и антисепти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изводи се у облику праха којји се меша са еугенолом или уљем каранфилића. ( нобетец, перипак, коепак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C:\Users\Zoran\Downloads\oralna hirurgija\slike\imagesmkmkmkm.jpg"/>
          <p:cNvPicPr/>
          <p:nvPr/>
        </p:nvPicPr>
        <p:blipFill>
          <a:blip r:embed="rId1"/>
          <a:stretch/>
        </p:blipFill>
        <p:spPr>
          <a:xfrm>
            <a:off x="206280" y="4470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C:\Users\Zoran\Downloads\oralna hirurgija\slike\imagesvpol.jpg"/>
          <p:cNvPicPr/>
          <p:nvPr/>
        </p:nvPicPr>
        <p:blipFill>
          <a:blip r:embed="rId2"/>
          <a:stretch/>
        </p:blipFill>
        <p:spPr>
          <a:xfrm>
            <a:off x="2417760" y="440064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C:\Users\Zoran\Downloads\oralna hirurgija\slike\imageszuzuuzz.jpg"/>
          <p:cNvPicPr/>
          <p:nvPr/>
        </p:nvPicPr>
        <p:blipFill>
          <a:blip r:embed="rId3"/>
          <a:srcRect l="-1629" t="38787" r="0" b="0"/>
          <a:stretch/>
        </p:blipFill>
        <p:spPr>
          <a:xfrm>
            <a:off x="5738760" y="4427640"/>
            <a:ext cx="316728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986-6832-4DD2-BE98-F2F6D57898F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493560" y="1876320"/>
            <a:ext cx="8096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Желатински пре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нцип њиховог дејства заснива се на особини да упијају крвну плазму и тромбоците. На тај начин делују позитивно на фазу коагулације кр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руги веома важан ефекат ових препарата је подстицање бољег зарастања рана. Период ресорбције ових препарата је 4-5 недеља.( гелатамп, геласпон, геластип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Zoran\Downloads\oralna hirurgija\slike\imagesmknb.jpg"/>
          <p:cNvPicPr/>
          <p:nvPr/>
        </p:nvPicPr>
        <p:blipFill>
          <a:blip r:embed="rId1"/>
          <a:stretch/>
        </p:blipFill>
        <p:spPr>
          <a:xfrm>
            <a:off x="1781280" y="439884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C:\Users\Zoran\Downloads\oralna hirurgija\slike\imagesfdrew.jpg"/>
          <p:cNvPicPr/>
          <p:nvPr/>
        </p:nvPicPr>
        <p:blipFill>
          <a:blip r:embed="rId2"/>
          <a:stretch/>
        </p:blipFill>
        <p:spPr>
          <a:xfrm>
            <a:off x="5818320" y="4240080"/>
            <a:ext cx="1609560" cy="19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6B39-9D02-41DE-94D1-4E650CD2194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469800" y="1816200"/>
            <a:ext cx="8156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орбацел – г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по хемијској структури калцијумом оксидисана полиглукуронска кисе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ује тако што образује велику површину на којој се лако формира фибринска мрежа и коагул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C:\Users\Zoran\Downloads\oralna hirurgija\slike\imagesgaxa.jpg"/>
          <p:cNvPicPr/>
          <p:nvPr/>
        </p:nvPicPr>
        <p:blipFill>
          <a:blip r:embed="rId1"/>
          <a:stretch/>
        </p:blipFill>
        <p:spPr>
          <a:xfrm>
            <a:off x="919080" y="420372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C:\Users\Zoran\Downloads\oralna hirurgija\slike\imagesjupoo.jpg"/>
          <p:cNvPicPr/>
          <p:nvPr/>
        </p:nvPicPr>
        <p:blipFill>
          <a:blip r:embed="rId2"/>
          <a:stretch/>
        </p:blipFill>
        <p:spPr>
          <a:xfrm>
            <a:off x="5595840" y="4334040"/>
            <a:ext cx="2476440" cy="184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4324-ACBB-49A6-9AC5-0877369034E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469800" y="173196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ПШТИ ХЕМИЈСКИ ХЕМОСТ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средства се примењују интравенски, интрамускуларно или перора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дејства може бити усмерен на ремећење осмотских услова у организму, на пропустљивост крвних судова, повећано распадање тромбоцита и инхибицију процеса фибриноли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коро редовно се комбиновано користе са локалним мерама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4023-0CB1-45BB-B6B0-77D4977DB7D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9800" y="1757520"/>
            <a:ext cx="8180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0,9% раствор натријум – хлор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и се за надокнаду волумена течности у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ћа је и примена хипертоничног раствора натријум-хлорида у концентрацији 5-6% и 40% раствора глукозе као општег хемоста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и раствори испољавају хемостатско дејство утицајем на тромбоците, повећањем њиховог распадања и утицајем на осмотске одно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C14E-203F-422F-BC3E-13B495C5640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93560" y="1876320"/>
            <a:ext cx="820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цес нормалне хемостазе подразумева три ф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скуларну ф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Тромбоцитну ф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азу коагулације кр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rm1s7_1.jpg"/>
          <p:cNvPicPr/>
          <p:nvPr/>
        </p:nvPicPr>
        <p:blipFill>
          <a:blip r:embed="rId1"/>
          <a:stretch/>
        </p:blipFill>
        <p:spPr>
          <a:xfrm>
            <a:off x="2482920" y="4238640"/>
            <a:ext cx="44290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3EB4-0BBC-4DEF-A333-C613953DBCD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457200" y="1528920"/>
            <a:ext cx="818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алцијум-хлорид и калцијум-глуко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ују тако што слепљују крвне суд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тифибринолитиц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 капрамол, циклокапрон и ПАМБ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ве су синтетске аминокиселине. Инхибишу процес претварања плазминогена у плаз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лметек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– повећава отпорност крвних су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ицино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– побољшава адхезивност тромбоцита и смањује пропустљивост крвних су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34B1-2D31-4997-8EF9-5DAED0A448C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69800" y="1684440"/>
            <a:ext cx="8145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итамин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чествује у синтези протромбина у је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фицит овог витамина имају болесници са оштећеном је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а витамина К је индикована у случајевима хипопротромбонемије или продуженог протромбинског вре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во се не односи на пацијенте који су на антикоагулантној терапији, тј. контраиндиковано је да се тим путем скраћује протромбинско вр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итамин 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0761-2D8D-42BF-9C39-41CC1CBC0F6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504720" y="1731960"/>
            <a:ext cx="8121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БИОЛОШКИ МЕТОДИ ХЕМО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и биолошки хемост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инска пена и тромб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продукти хумане крви и састоје се од фибрина и тромб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сорбују се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in situ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 Подложни су инфек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емофиб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парат добијен из говеђе кр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чин апликације је као и код предходног пре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EAD2-DC30-4DEF-ADBE-64CC33C9920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493560" y="2165400"/>
            <a:ext cx="8096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Tipostasin I Tissu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фибрински лепак. Састоји се из говеђег фибрина, апротинина и калцијум-хлорида. Прва два састојка се налазе у одвојеним бризгалицама и мешају се у тренутку а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је ефикасан у процесу вештачке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Хемофил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Наследн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Хемофилија А (недостатак 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VIII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Хемофилија Б и Ц (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IX, XI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37040" y="6505560"/>
            <a:ext cx="2895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6367-1F6D-4A18-B0A3-F2693304371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Von-Wilebrantova болест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Код оба пола, чешће код 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дефицит 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VIII F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и поремећај функције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тромб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Palatino Linotype"/>
              </a:rPr>
              <a:t>Т</a:t>
            </a:r>
            <a:r>
              <a:rPr b="1" lang="sr-Latn-RS" sz="2400" spc="-1" strike="noStrike">
                <a:solidFill>
                  <a:srgbClr val="000000"/>
                </a:solidFill>
                <a:latin typeface="Palatino Linotype"/>
              </a:rPr>
              <a:t>h.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Преоперативна припрема давањем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концентрованог 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F VIII,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криопреципитата и ређе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свеже смрзнуте пла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9EB7-A039-4165-9DC9-566115912E2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ацијенти на антиагрегационој и  антикоагулантној терап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49280" y="18176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Не укидати ниједну од ове две врсте терапије јер то може витално угрозити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За антикоагулантну терапију обавезно урадити вредност INR (нормална вредност износси око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4174-EB02-4CAF-9A69-1F7386228E3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EC51-E007-495F-A71A-4E8F606B94F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69800" y="1781280"/>
            <a:ext cx="828828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СКУЛАРНА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мах након оштећења крвног суда , јављасе његова реакција к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манифестује грчењем зида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мањих крвних судова се на овај начин потпуно затвара лу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ног суда, док се код већих он су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:\Users\Zoran\Downloads\oralna hirurgija\slike\download (9).jpg"/>
          <p:cNvPicPr/>
          <p:nvPr/>
        </p:nvPicPr>
        <p:blipFill>
          <a:blip r:embed="rId1"/>
          <a:srcRect l="39526" t="8571" r="13558" b="54452"/>
          <a:stretch/>
        </p:blipFill>
        <p:spPr>
          <a:xfrm>
            <a:off x="3284640" y="4030560"/>
            <a:ext cx="24397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0" y="6424560"/>
            <a:ext cx="414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CEE5-456E-4051-AEF0-CBE31B548F3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93560" y="1865160"/>
            <a:ext cx="8169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2. ТРОМБОЦИТНА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ј фази долази до нагомилавања тромбоцита на месту повреде крвног суда. На тај начин се формира примарни тромб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ли тром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о нагомилавање тромбоцита се назива агрег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кон ретракције тромба обезбеђено је потпуно затварање повређеног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C:\Users\Zoran\Downloads\oralna hirurgija\slike\download (9).jpg"/>
          <p:cNvPicPr/>
          <p:nvPr/>
        </p:nvPicPr>
        <p:blipFill>
          <a:blip r:embed="rId1"/>
          <a:srcRect l="39959" t="45971" r="14818" b="15132"/>
          <a:stretch/>
        </p:blipFill>
        <p:spPr>
          <a:xfrm>
            <a:off x="3513240" y="4307040"/>
            <a:ext cx="1850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46F3-5DAB-4887-8903-34F3718BFB5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57200" y="1684440"/>
            <a:ext cx="8217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3. КОАГУЛАЦИЈА К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играва се у крвној плаз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ј процес је веома сложен и у њему учествује велики број протеина плазме који се називају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фактори коагулације.( 1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ј фази учествују и фактори пореклом из тромбоцита и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Четири фазе коагул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тивирање тромбопла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варање протромбина у тромб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варање фибриногена у фиб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ракција коагулума или фибрин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E4C6-5D47-4C7A-B017-1DF1A1DD56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33440" y="1528920"/>
            <a:ext cx="83502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лази до активирања тромбопластина  ( крвни и ткивн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ни тромбопластин се ослобађа из тромбоцита који се распадај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диру са површином оштећеног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ј фази се ослобађају и учествују фактор 3, 12, 11, 8, 9 и 5 у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суство јона калцијума. Коначан резултат је крвни тромбопла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фаза коагулације траје 4-8 мин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тно бржа фаза је активација ткивног тромбопластина у 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чествују 7, 10 и 5 фак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A391-03D9-42EE-A27B-C3DA0CADCB4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57200" y="1697040"/>
            <a:ext cx="8205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2. 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тивни тромбопластин, у садејству јона калцијума, делује на неактивни протеин протромбин у плазми и претвара га у тромб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омбин разграђује молекуле фибриногена у активни фибр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тивирани фибрин се аутополимеризује у велике молекуле ко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раде  мрежу фибринских влакана. Ова мрежа постаје основ у којо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задржавају крвни елементи плазме формирајући крвни угруш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Users\Zoran\Downloads\oralna hirurgija\slike\download (8).jpg"/>
          <p:cNvPicPr/>
          <p:nvPr/>
        </p:nvPicPr>
        <p:blipFill>
          <a:blip r:embed="rId1"/>
          <a:srcRect l="0" t="0" r="775" b="21651"/>
          <a:stretch/>
        </p:blipFill>
        <p:spPr>
          <a:xfrm>
            <a:off x="431640" y="1746360"/>
            <a:ext cx="838044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3CE0-D9D2-4749-B6C7-5699CF9556E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69800" y="1720800"/>
            <a:ext cx="8180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4. 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две врсте реак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ви тип реакције  ј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ретракција коагулума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спадањем тромбоцита долази до ослобађања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тромбастенин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и се контрахује и доводи до ретракције крвног угрушка и истискивања крвног сер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руги тип реакције је да под дејством фибринолитичког ензима плазмина формирана фибринска мрежа разгради. (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процес фибринолизе 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6:02:11Z</dcterms:modified>
  <cp:revision>1194</cp:revision>
  <dc:subject/>
  <dc:title>NAZIV PREDAVANJA</dc:title>
</cp:coreProperties>
</file>